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9CB-3DDB-462A-89E3-D7513265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AFE-AE90-4F94-82AD-B8AA4397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827-11FE-4C2C-8CE0-76278861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FB3-7D8E-4847-A7CE-73FED1DB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2EEE-1EBD-4B03-AD64-CBE8C86B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683B-D985-44EE-868F-6A1CC5CE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FBE1-4E55-4D73-A32E-FDCC21EF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3743-B8E0-42FC-8931-08046545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26CC-DA7A-4DB1-92EE-D7F2F7F1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B68C-ABDE-41C7-ADEE-3437A3D7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EC00-53C6-4A35-B5F1-F74E6518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49A-C872-4696-A639-E5307621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4717-EFDE-46E1-A127-9137B2E1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2FEA-231C-4B77-9906-E944B40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FAC7-E554-4016-82B8-49683F17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6890-4641-43D8-8A7F-A663F267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94B2-9C80-48BD-9891-B3EBED90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956-7212-4639-B13A-2234158F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746-0C46-409C-8EAB-6908C213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0F4-8A6C-4AC4-A11B-C7F07A05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613-0460-41E7-9F71-65A88DD8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A01-2670-48D1-8B5D-873C17C7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13B-EB3C-48A3-8ECB-D3A3DF6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143-DBF2-4956-8DD4-CDA28397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80B5-A6D0-462A-8916-0492D662FFD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47E8-B464-48C8-B634-8E1F613844C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371240"/>
            <a:ext cx="8226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Becoming Proficient English Readers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Group:  How do students learn to read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/Context Building Ide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folktales from native cul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materials from the students background-geographical location, hobbies, events, holiday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stories that have familiar valu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oduce unfamiliar vocabulary using TPR, Visual and linguistic approaches—connec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duct pre-reading discuss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ke time to process reading selections in pairs and group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begin reading selections with hands-on, whole-body, and “being there” experi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ritical Thinking Skills/Strateg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icult to comprehend material we have never experienc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 readers use many strategies and techniques to re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ach reading strateg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k questions while read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e graphic organiz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ake not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ummariz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ciprocal teach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ir-sha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itical Thinking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ding Strateg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lighting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irc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ann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kimm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ner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sualiz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ding for high visibility wo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ding for detai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-read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itical Thinking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 “Real” high interest reading materials instead of isolated, skill-based reading materia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lp students connect to reading on a personal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ablish a purpose for read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 time to digest in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lp students navigate through the 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ase One – I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d students into the tex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tivate, exci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aw upon prior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ive students time to reflect and bring their own understanding to the 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activities help lead students into tex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o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stening/speaking foc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di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cuss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ainstorming/cluster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atial-films, pictures, art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ng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le play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ecting picture thin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apersonal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ick wri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ase Two – Throug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isting Students through the tex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rough activities should help students unlock the authors meaning and messa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 abstract ideas visual and concre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ough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oral reading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raphic organiz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igsaw read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ocabulary collec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ocabulary build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ing sour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llustrating quot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cepts and skil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ntence strip story explo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ell the s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in writing process activ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ase Three – Bey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yond activities help the student experience the story across the curriculu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need to synthesize the in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lore content and concepts across the curriculu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yond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activ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tended read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rainstorm other beyond activ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ing is multifaceted and development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to make connections between language, print, and thou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ped by prior experiences, culture and edu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ust bring all their skills to the table-decoding, conceptual framework, language skills, thinking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eacher Must Addres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coding skills/word recogni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Language development/competen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cept/context build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itical thinking skills/strateg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coding Skills/Word Recogni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on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extualized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ach me how to read using the “Patterns and Programs” my brain has already develop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coding Skills/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ord Recognition Ide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teach the sounds of the new language within a meaningful contex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what you are saying.  This helps students see the connection between the oral and written wor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the language experience approa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students identify/tell you words they would like to know how to read and wri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students collect their new acquired words in a special noteboo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bel the entire 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nological Transferences and Inter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2514600"/>
            <a:ext cx="4038840" cy="342900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2514600"/>
            <a:ext cx="4191120" cy="33526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2720" y="30877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anis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4120" y="3240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m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5400" y="26305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glis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373068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,e,I,o,u,v,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,g,ll,y,j,q,z.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99320" y="3618000"/>
            <a:ext cx="123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,p,t,d,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,f,s,n,l,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,c,g,c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l,gl,pl,t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gr, b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r, dr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, fr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oi, oy, 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97720" y="3160800"/>
            <a:ext cx="329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,e,I,o,u, (long and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, ow/ou. Ea, eew ay,au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y/aw, ar, er,ir, ur, oo, ei, ou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g, (soft) sc, si, sn,sm, sp, sq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t, scr, spt, spr, str, sch, sk, s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w, thr, sh, th, wh, sk, ng, ph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ch, ugh, igh, kn, wr, gn, n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84680" y="1865160"/>
            <a:ext cx="44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mmon Sounds transfer easily to Englis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 Development and Compet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Language in real communication situ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 interactive and experiential learning to promote purposeful language use that leads to successful second language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pport primary language development at school and at hom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 Development/Competence Ide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nguage experience approa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a Hand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d alou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lore and enjoy language that comes in the form of songs, chants, raps, riddles, choral reading, jokes, and poe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ate learning experiences where language is greatly contextualized—field trips, classroom/school activities, community events, everyday home experi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sson Plan Hand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/Context Buil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ose selections from the students’ cultural backgroun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culturally familiar materials to make sense of new materia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ways begin with realia before moving into tex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5T23:45:47Z</dcterms:created>
  <dc:creator>Jeanette Christenson</dc:creator>
  <dc:description/>
  <dc:language>en-US</dc:language>
  <cp:lastModifiedBy>MLMS</cp:lastModifiedBy>
  <dcterms:modified xsi:type="dcterms:W3CDTF">2003-06-20T16:23:49Z</dcterms:modified>
  <cp:revision>8</cp:revision>
  <dc:subject/>
  <dc:title>Becoming Proficient English Readers</dc:title>
</cp:coreProperties>
</file>